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84A-AF6F-45A6-AF92-B5360C84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A99-AAFA-41E8-921F-56A29F41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3E5-18E4-4968-B214-FE10040A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3A1-125B-433D-96D5-A7CF5E64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CC6-5A8E-41AB-A092-9EE48E63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20F8-9F97-47B7-B45B-FA9A5438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F519-F8CE-42E6-83B6-F8B0043F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FAE-B0B8-4990-8C90-75091FF7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8C7-6240-441C-9052-54262F32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2BA-2E43-4A14-B2AD-B83ECF12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23C-68CD-45E6-BC0C-E452DAF5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F650-1E1B-4FB2-BD7A-3553BE70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2E51-ED16-46D0-B349-C5DBACFEF8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o Tell the Good News”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Early Churc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11, Lesson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6:7 – 8: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35-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49F-28D9-4D09-818C-F1DCBC51AC7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ephen’s Defense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7:39-44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ir hearts, they turned back to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anted gods to go before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rejecting Moses, they rejected God and turned to id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told them, “I will carry them away beyond Babylo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the tabernacle of wi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brought with them into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5788-D509-4F55-B0FF-BD004D435C08}" type="slidenum">
              <a:t>10</a:t>
            </a:fld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ephen’s Defense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7:45-52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found favor with G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nted a dwelling place for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omon built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God does not dwell in houses made by men – heaven is His thr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hen said to the counci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stiff-necked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ircumcised in heart and 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just like your fa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killed the proph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F25F-7DDF-44DF-8604-09D58D31B83C}" type="slidenum">
              <a:t>11</a:t>
            </a:fld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, YOU HAVE REJECTED THE RIGHTEOUS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you have murdered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cut to the heart and gritted their teeth in 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hen, being full of the Holy Spirit, looked up into heaven and saw Jesus standing at the right hand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ephen’s Martyrdom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7:52-5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CE2-5015-4723-9161-65E0E5FE8160}" type="slidenum">
              <a:t>12</a:t>
            </a:fld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eized Stephen and threw him out of the city where they stoned him to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kneeled down and cried with a loud voice, “Lord, lay not this sin to their charg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Stephen fell asl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young man Saul fully approved of what the mob had done to Step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ephen’s Martyrdom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7:57-6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83D-6A1D-4401-975A-6AD4EA27D6D8}" type="slidenum">
              <a:t>13</a:t>
            </a:fld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great persecution against the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ciples were scattered abroad, except for the apo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ersecution Continued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8:1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0766-D4E4-4433-AC67-B3A3A970F3A6}" type="slidenum">
              <a:t>14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Word of God Grew in Jerusalem</a:t>
            </a:r>
            <a:br>
              <a:rPr sz="36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6:7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believers gr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company of priests were obed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853-30A8-4442-80AB-57017B9E51C1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ephen’s Conflict With The Jews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6:8-15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person other than an apostle to perform mira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cian Jews began to debate Step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they could not resist him, they paid evil men to make accusations against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tirred up the people, the elders, and the scribes, and brought him to the cou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hen’s face appeared as the face of an ang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A2F4-8E90-446E-917D-45BD853ACBD2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called Abraham to the promised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id not inherit the land, but God promised it as a possession to his s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aid that his descend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sojourn in a strange land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in bondage for 40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ite of circumcision was a sign of God’s covenant with Abrah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904400" y="3429000"/>
            <a:ext cx="12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ephen’s Defense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7:1-8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F0E-D7A6-40D2-954A-450C995BCC53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ephen’s Defense 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7:9-15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riarchs, moved with jealous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ld their brother Joseph into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God’s hand, Joseph found favor with Pharaoh and became a ruler of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famine throughout the l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ob sent his sons to Egypt to buy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 recognized his brothers and had his family come to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518-4832-48F0-A8F5-66B4897204EF}" type="slidenum">
              <a:t>5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ephen’s Defense 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7:16-21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w king came into power that knew not Jose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king dealt harshly with them causing them to cast out young children to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 lived in his father’s house three mon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he was cast out, Pharaoh’s daughter found him and raised him as her 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B4F-F485-4A52-B7C1-3C066A54E992}" type="slidenum">
              <a:t>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ephen’s Defense 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7:22-29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Moses was 40 years old, he visited his kind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ing one of them mistreated, he avenged him by killing the Egypt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’ BRETHREN ACCUSED HIM OF BEING A JUDGE OVER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fled to the land of Midian and had two 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2D9-4CBC-4FF4-88FB-69F765D1A44A}" type="slidenum">
              <a:t>7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ephen’s Defense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7:30-35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40 years, an angel appeared to Moses in a burning bu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told Mos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ad seen the hardship of His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d their groa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deliver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made him ruler and deliver of His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5668-4FB0-47DF-83DF-0B6E40AAD067}" type="slidenum">
              <a:t>8</a:t>
            </a:fld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ephen’s Defense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7:36-39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 brought them out of Egypt and into a wilderness for forty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 prophesi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A prophet shall the Lord your God raise up unto you of your brethren, like unto me; him shall ye hear.”  (Deut. 18: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gel spoke to Moses at Mt. Sinai, giving him “living word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ancestors would NOT obey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46B-9DBB-4285-8E83-2404BAAC2390}" type="slidenum">
              <a:t>9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21:39:45Z</dcterms:created>
  <dc:creator>Ray Cooley</dc:creator>
  <dc:description/>
  <dc:language>en-US</dc:language>
  <cp:lastModifiedBy>Frank D Vines</cp:lastModifiedBy>
  <dcterms:modified xsi:type="dcterms:W3CDTF">2007-01-25T00:29:36Z</dcterms:modified>
  <cp:revision>42</cp:revision>
  <dc:subject/>
  <dc:title>Life of Christ, Part 2 In Perea</dc:title>
</cp:coreProperties>
</file>